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8.jpeg" ContentType="image/jpeg"/>
  <Override PartName="/ppt/media/image53.png" ContentType="image/png"/>
  <Override PartName="/ppt/media/image52.png" ContentType="image/png"/>
  <Override PartName="/ppt/media/image51.png" ContentType="image/png"/>
  <Override PartName="/ppt/media/image46.png" ContentType="image/png"/>
  <Override PartName="/ppt/media/image45.png" ContentType="image/png"/>
  <Override PartName="/ppt/media/image33.png" ContentType="image/png"/>
  <Override PartName="/ppt/media/image48.png" ContentType="image/png"/>
  <Override PartName="/ppt/media/image11.png" ContentType="image/png"/>
  <Override PartName="/ppt/media/image19.jpeg" ContentType="image/jpeg"/>
  <Override PartName="/ppt/media/image25.png" ContentType="image/png"/>
  <Override PartName="/ppt/media/image32.jpeg" ContentType="image/jpeg"/>
  <Override PartName="/ppt/media/image17.png" ContentType="image/png"/>
  <Override PartName="/ppt/media/image18.jpeg" ContentType="image/jpeg"/>
  <Override PartName="/ppt/media/image3.png" ContentType="image/png"/>
  <Override PartName="/ppt/media/image15.png" ContentType="image/png"/>
  <Override PartName="/ppt/media/image12.png" ContentType="image/png"/>
  <Override PartName="/ppt/media/image26.png" ContentType="image/png"/>
  <Override PartName="/ppt/media/image63.png" ContentType="image/png"/>
  <Override PartName="/ppt/media/image31.png" ContentType="image/png"/>
  <Override PartName="/ppt/media/image49.png" ContentType="image/png"/>
  <Override PartName="/ppt/media/image65.jpeg" ContentType="image/jpeg"/>
  <Override PartName="/ppt/media/image23.jpeg" ContentType="image/jpeg"/>
  <Override PartName="/ppt/media/image8.png" ContentType="image/png"/>
  <Override PartName="/ppt/media/image38.png" ContentType="image/png"/>
  <Override PartName="/ppt/media/image62.png" ContentType="image/png"/>
  <Override PartName="/ppt/media/image28.jpeg" ContentType="image/jpeg"/>
  <Override PartName="/ppt/media/image27.png" ContentType="image/png"/>
  <Override PartName="/ppt/media/image16.jpeg" ContentType="image/jpeg"/>
  <Override PartName="/ppt/media/image64.png" ContentType="image/png"/>
  <Override PartName="/ppt/media/image60.jpeg" ContentType="image/jpeg"/>
  <Override PartName="/ppt/media/image30.png" ContentType="image/png"/>
  <Override PartName="/ppt/media/image29.jpeg" ContentType="image/jpeg"/>
  <Override PartName="/ppt/media/image2.png" ContentType="image/png"/>
  <Override PartName="/ppt/media/image14.png" ContentType="image/png"/>
  <Override PartName="/ppt/media/image67.jpeg" ContentType="image/jpeg"/>
  <Override PartName="/ppt/media/image21.png" ContentType="image/png"/>
  <Override PartName="/ppt/media/image22.png" ContentType="image/png"/>
  <Override PartName="/ppt/media/image24.jpeg" ContentType="image/jpeg"/>
  <Override PartName="/ppt/media/image59.png" ContentType="image/png"/>
  <Override PartName="/ppt/media/image34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1.png" ContentType="image/png"/>
  <Override PartName="/ppt/media/image13.png" ContentType="image/png"/>
  <Override PartName="/ppt/media/image57.png" ContentType="image/png"/>
  <Override PartName="/ppt/media/image37.jpeg" ContentType="image/jpeg"/>
  <Override PartName="/ppt/media/image20.png" ContentType="image/png"/>
  <Override PartName="/ppt/media/image4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47.png" ContentType="image/png"/>
  <Override PartName="/ppt/media/image35.png" ContentType="image/png"/>
  <Override PartName="/ppt/media/image9.jpeg" ContentType="image/jpeg"/>
  <Override PartName="/ppt/media/image36.png" ContentType="image/png"/>
  <Override PartName="/ppt/media/image39.png" ContentType="image/png"/>
  <Override PartName="/ppt/media/image40.png" ContentType="image/png"/>
  <Override PartName="/ppt/media/image66.png" ContentType="image/png"/>
  <Override PartName="/ppt/media/image41.jpeg" ContentType="image/jpeg"/>
  <Override PartName="/ppt/media/image54.png" ContentType="image/png"/>
  <Override PartName="/ppt/media/image42.png" ContentType="image/png"/>
  <Override PartName="/ppt/media/image43.png" ContentType="image/png"/>
  <Override PartName="/ppt/media/image4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3538-E48C-45AB-808E-06B80E9D3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5A46-9CF6-4EAA-B026-2E5885131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5AE8-7EE4-40CD-9890-B742EFD1E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950A-2378-4A6D-B049-E4502910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0DA9-89EF-48DA-92FA-5154B1640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C946-D2B3-4E91-B29D-738A0FE49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6D3F-B33F-4769-9602-E2B3E1CFD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9864-DDB5-48D6-8B5C-8300ABF1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E39F-C4A2-465B-83F7-2D28DD66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58CF-E97E-4A1E-9022-026B5211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891D-66E2-44E1-99A4-15A92EC2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E24F-6A04-4E11-B56A-732F14CA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3010-17F4-4954-800F-F42DB929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09ED-B720-4A0B-B003-6BF65477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0A3B-3C81-4CE1-8702-52E15642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6CA2-2590-47A1-A628-3072173C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C59A-8E65-42DD-9A73-4B71C57C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49B5-4CB0-41BF-A439-3B1AE4842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C80E-099B-4AD7-B5FE-64FCE779B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AB186-DE06-4C07-AC81-94895451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E116A-A067-4960-BE58-548DE647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1EFD4-3C98-4C06-8BC9-E447DFF4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EE65E-4A2D-404A-BB19-EA46ECC5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D9DD2-00C5-4EDF-9D81-DF73402B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A257-CAF4-4D43-9216-8D26A8A2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8D842-29CD-48E0-8C67-7A420684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5777D-6B28-4981-BD37-F0DD9CD9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15ABE-5196-4CB0-9D76-09A15085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6BB3F-1609-49B8-86C3-CBFD0392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81831-D650-4D97-877D-AB4C7F0C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24326-D687-4F42-8AC3-1A3F188CC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30CAA-C7DD-4E7E-8062-9355F89B7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0746A-4768-4AF2-A4E6-F1B3E4847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72959-2BE1-4ED1-8EB7-1241C1F4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63024-5620-45D2-979F-67A4C40E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715E-0906-436F-B371-A4E4B1DF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BDAF7-C859-4F4D-B891-771808C5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020A9-7691-41D3-BF79-B4E23C58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046AD-C78C-449D-8F40-C57738B7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B9A58-5156-499E-A768-C8F3B8DA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09A2E-E26E-45DB-B4D1-F5224B33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3153D-6BE6-400F-B073-FABA62E4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36E9F-31F6-493D-986A-B9E98310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34F7A-020D-4641-80E2-7EBB4BCC8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7C65F-57B1-4C1B-A5E3-E0738028A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CB493-528E-4985-A666-D0CC1CF0D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F5E4-4378-47DF-A39A-D7FEE679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09ED4-9CA6-4A6A-AF5B-17CB48F4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1E02B-68E2-4DD3-9754-BB9F838F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F1B5D-0C0F-4C82-A2AA-02EBA817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9B4F5-ED75-4DA0-A9C6-ACBB392C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4D2A8-349E-4014-A429-09EC88A9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9458A-33E8-4E28-A8D4-F3E72776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E5721-1247-4018-B836-AA9CF3BE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94713-483F-4B1C-A56F-61CC25BE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BAC9E-D53B-4AAE-AF46-208C40B0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653BD-630D-42F4-B889-DDC6D252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9087-B49C-4019-99A0-E805DF97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A2101-FB78-44BE-B30D-157696E20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B0C5A-E50F-4390-B1C0-50F23CB8C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69852-8FB0-444C-855E-92BEB308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A1236-0F38-406A-A641-DD63F344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7CE82-8301-48AC-9CAB-2350DC29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0A7A8-24A6-41CA-9C08-F29F7435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6BFED-9398-4AD2-86B5-7CE41768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1C89A-48E2-4D9C-9E1C-C2F9C5DB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5E95D-9CE4-4828-AC9E-688719A1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84DBC-F1D6-4652-9FF2-809E3C61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9435-4152-497C-9BB3-379EF7B9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F2062-DF2E-4009-ACA9-978C56D2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78A1D-1E58-429D-9CC1-1AC50E941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3E352-61D0-4269-AD5A-E756F980D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5A241-4C1B-4A13-8360-3EA6513B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9A2EC-7784-47D2-BF1C-C5245DE7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1C01E-0F37-400C-B803-0238109D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F3BBA-F62E-4282-91D2-8BF475CD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CB2D0-8437-455B-A750-02738EC6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2F469-4F93-4232-A64B-7477EEAF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1477C-EA37-4291-ACEF-6B5A184E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B98B-26AD-42E1-8854-D59787A1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ABD7F-FFA7-4918-95F2-5F1BDA64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9F70D-B8A5-4E76-9D8C-96011436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0DC7A-D196-4CE3-BA12-1EAFADDC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BA8E5-011B-497C-B3E4-83081B5CE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F517E-3603-4532-B0E1-3889740CA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08FD4-C786-468A-90D9-4DDE2FBAE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903BA-4BFE-4487-BC88-B353D47D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F0050-70E3-424D-ADAE-C5E12C29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F46B2-C55D-49C2-BC14-76584AA6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48BEB-F6BA-43C4-AC4B-E4F6C4F1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0FE5-831D-4BDC-B9AD-68555373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C5B94-A3BB-4ED0-AEF8-5F45E4C7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444B3-61D7-4AF2-B2B2-B8F1DE01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CD42F-886E-483D-9AEE-05A054E2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A0560-BC8B-4DF1-92EA-942AD70B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8F726-8BD2-49EA-8A33-624404D8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D4467-72B0-401A-8196-907909173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FE87C-9E52-4539-877D-F5BAABE01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8480" cy="1085760"/>
            <a:chOff x="-6480" y="5791320"/>
            <a:chExt cx="3408480" cy="108576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84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2600" y="5778360"/>
            <a:ext cx="3414600" cy="1103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7F92-1FC8-418E-96F8-D2B3AF4BAE6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88760" y="4952880"/>
              <a:ext cx="7449480" cy="48600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39240" y="5236200"/>
              <a:ext cx="9098640" cy="78660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8240"/>
              <a:ext cx="9135360" cy="1866240"/>
              <a:chOff x="2520" y="4998240"/>
              <a:chExt cx="9135360" cy="186624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8240"/>
                <a:ext cx="913536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28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00F9-875A-4081-9B4B-FF4D2F09A1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8480" cy="1085760"/>
            <a:chOff x="-6480" y="5791320"/>
            <a:chExt cx="3408480" cy="108576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84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2600" y="5778360"/>
            <a:ext cx="3414600" cy="110340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AB50-17B7-42A5-A045-8205C33980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8480" cy="1085760"/>
            <a:chOff x="-6480" y="5791320"/>
            <a:chExt cx="3408480" cy="108576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84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2600" y="5778360"/>
            <a:ext cx="3414600" cy="11034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02F9-0F82-4524-B151-14618C63F3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274B-311D-49C1-A4D6-1D6B03CA8F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8480" cy="1085760"/>
            <a:chOff x="-6480" y="5791320"/>
            <a:chExt cx="3408480" cy="108576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84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2600" y="5778360"/>
            <a:ext cx="3414600" cy="11034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2CFE-298F-42E3-BBE9-64AC1AF537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98FE-1442-4AEC-B36E-6D7DB3675E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8480" cy="1085760"/>
            <a:chOff x="-6480" y="5791320"/>
            <a:chExt cx="3408480" cy="108576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84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2600" y="5778360"/>
            <a:ext cx="3414600" cy="110340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0072-B2F3-417F-B661-95CBDB50E2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648320" y="3352320"/>
            <a:ext cx="3962160" cy="1752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enetic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Picture 2" descr="Picture"/>
          <p:cNvPicPr/>
          <p:nvPr/>
        </p:nvPicPr>
        <p:blipFill>
          <a:blip r:embed="rId1"/>
          <a:stretch/>
        </p:blipFill>
        <p:spPr>
          <a:xfrm>
            <a:off x="304920" y="0"/>
            <a:ext cx="45734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http://micro.magnet.fsu.edu/cells/nucleus/images/chromatinstructurefigure1.jpg"/>
          <p:cNvPicPr/>
          <p:nvPr/>
        </p:nvPicPr>
        <p:blipFill>
          <a:blip r:embed="rId2"/>
          <a:stretch/>
        </p:blipFill>
        <p:spPr>
          <a:xfrm>
            <a:off x="0" y="1905120"/>
            <a:ext cx="8948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1" name="Picture 4" descr="http://www.fxtas.org/images/chromosomes_and_the_cell.jpg"/>
          <p:cNvPicPr/>
          <p:nvPr/>
        </p:nvPicPr>
        <p:blipFill>
          <a:blip r:embed="rId1"/>
          <a:stretch/>
        </p:blipFill>
        <p:spPr>
          <a:xfrm>
            <a:off x="0" y="0"/>
            <a:ext cx="9296280" cy="5715000"/>
          </a:xfrm>
          <a:prstGeom prst="rect">
            <a:avLst/>
          </a:prstGeom>
          <a:ln w="0">
            <a:noFill/>
          </a:ln>
        </p:spPr>
      </p:pic>
      <p:sp>
        <p:nvSpPr>
          <p:cNvPr id="412" name="TextBox 5"/>
          <p:cNvSpPr/>
          <p:nvPr/>
        </p:nvSpPr>
        <p:spPr>
          <a:xfrm>
            <a:off x="4267080" y="3657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7"/>
          <p:cNvSpPr/>
          <p:nvPr/>
        </p:nvSpPr>
        <p:spPr>
          <a:xfrm>
            <a:off x="6400800" y="4114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vidual Nucleot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4" name="Straight Arrow Connector 9"/>
          <p:cNvCxnSpPr/>
          <p:nvPr/>
        </p:nvCxnSpPr>
        <p:spPr>
          <a:xfrm flipV="1">
            <a:off x="4876920" y="2590200"/>
            <a:ext cx="76248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5" name="Straight Arrow Connector 10"/>
          <p:cNvCxnSpPr/>
          <p:nvPr/>
        </p:nvCxnSpPr>
        <p:spPr>
          <a:xfrm flipV="1">
            <a:off x="7162920" y="2895120"/>
            <a:ext cx="1219680" cy="112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8" name="Picture 2" descr="http://dj003.k12.sd.us/images/genes.gif"/>
          <p:cNvPicPr/>
          <p:nvPr/>
        </p:nvPicPr>
        <p:blipFill>
          <a:blip r:embed="rId1"/>
          <a:stretch/>
        </p:blipFill>
        <p:spPr>
          <a:xfrm>
            <a:off x="380880" y="609480"/>
            <a:ext cx="4286520" cy="39531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http://ap-bio-patrick-steed.wikispaces.com/file/view/Alleles.gif/85211841/Alleles.gif"/>
          <p:cNvPicPr/>
          <p:nvPr/>
        </p:nvPicPr>
        <p:blipFill>
          <a:blip r:embed="rId2"/>
          <a:stretch/>
        </p:blipFill>
        <p:spPr>
          <a:xfrm>
            <a:off x="5334120" y="2590920"/>
            <a:ext cx="328608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22" name="Picture 2" descr="http://cdn.innovateus.net/preset_4/image_homozygous_heterozygous.gif"/>
          <p:cNvPicPr/>
          <p:nvPr/>
        </p:nvPicPr>
        <p:blipFill>
          <a:blip r:embed="rId1"/>
          <a:stretch/>
        </p:blipFill>
        <p:spPr>
          <a:xfrm>
            <a:off x="228600" y="609480"/>
            <a:ext cx="4238640" cy="27133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http://t1.gstatic.com/images?q=tbn:ANd9GcSbIAKUFYeOiZD-68CNHqpiasBp820D7eqNd71RXKvMmw_4OYkThg"/>
          <p:cNvPicPr/>
          <p:nvPr/>
        </p:nvPicPr>
        <p:blipFill>
          <a:blip r:embed="rId2"/>
          <a:stretch/>
        </p:blipFill>
        <p:spPr>
          <a:xfrm>
            <a:off x="3962520" y="2743200"/>
            <a:ext cx="495288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6" descr="http://www.sciencebuddies.org/science-fair-projects/project_ideas/Genom_img043.jpg"/>
          <p:cNvPicPr/>
          <p:nvPr/>
        </p:nvPicPr>
        <p:blipFill>
          <a:blip r:embed="rId1"/>
          <a:stretch/>
        </p:blipFill>
        <p:spPr>
          <a:xfrm>
            <a:off x="1295280" y="2971800"/>
            <a:ext cx="7348680" cy="4114800"/>
          </a:xfrm>
          <a:prstGeom prst="rect">
            <a:avLst/>
          </a:prstGeom>
          <a:ln w="0">
            <a:noFill/>
          </a:ln>
        </p:spPr>
      </p:pic>
      <p:pic>
        <p:nvPicPr>
          <p:cNvPr id="425" name="Title 1" descr=""/>
          <p:cNvPicPr/>
          <p:nvPr/>
        </p:nvPicPr>
        <p:blipFill>
          <a:blip r:embed="rId2"/>
          <a:stretch/>
        </p:blipFill>
        <p:spPr>
          <a:xfrm>
            <a:off x="914400" y="219240"/>
            <a:ext cx="7162920" cy="1407960"/>
          </a:xfrm>
          <a:prstGeom prst="rect">
            <a:avLst/>
          </a:prstGeom>
          <a:ln w="0">
            <a:noFill/>
          </a:ln>
        </p:spPr>
      </p:pic>
      <p:sp>
        <p:nvSpPr>
          <p:cNvPr id="426" name="AutoShape 2"/>
          <p:cNvSpPr/>
          <p:nvPr/>
        </p:nvSpPr>
        <p:spPr>
          <a:xfrm>
            <a:off x="0" y="-601560"/>
            <a:ext cx="14097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http://www.muskingum.edu/~psych/psycweb/history/mendelchart.gif"/>
          <p:cNvPicPr/>
          <p:nvPr/>
        </p:nvPicPr>
        <p:blipFill>
          <a:blip r:embed="rId3"/>
          <a:stretch/>
        </p:blipFill>
        <p:spPr>
          <a:xfrm>
            <a:off x="0" y="762120"/>
            <a:ext cx="2546280" cy="2286000"/>
          </a:xfrm>
          <a:prstGeom prst="rect">
            <a:avLst/>
          </a:prstGeom>
          <a:ln w="0">
            <a:noFill/>
          </a:ln>
        </p:spPr>
      </p:pic>
      <p:sp>
        <p:nvSpPr>
          <p:cNvPr id="428" name="TextBox 7"/>
          <p:cNvSpPr/>
          <p:nvPr/>
        </p:nvSpPr>
        <p:spPr>
          <a:xfrm>
            <a:off x="3124080" y="1600200"/>
            <a:ext cx="624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trait completely masks/dominants the other trait when it is expressed.   Can be homozygous or heterozygous domin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Title 1" descr=""/>
          <p:cNvPicPr/>
          <p:nvPr/>
        </p:nvPicPr>
        <p:blipFill>
          <a:blip r:embed="rId1"/>
          <a:stretch/>
        </p:blipFill>
        <p:spPr>
          <a:xfrm>
            <a:off x="1444680" y="139680"/>
            <a:ext cx="6937200" cy="14144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2" descr="http://www.jackrussell.ch/images2/01img/FarbEngl01.jpg"/>
          <p:cNvPicPr/>
          <p:nvPr/>
        </p:nvPicPr>
        <p:blipFill>
          <a:blip r:embed="rId2"/>
          <a:stretch/>
        </p:blipFill>
        <p:spPr>
          <a:xfrm>
            <a:off x="380880" y="838080"/>
            <a:ext cx="2857680" cy="29718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http://blog.lib.umn.edu/stoe0062/fall_2011%20psy%201001%20sec%2021/recessive%20gene.jpg"/>
          <p:cNvPicPr/>
          <p:nvPr/>
        </p:nvPicPr>
        <p:blipFill>
          <a:blip r:embed="rId3"/>
          <a:stretch/>
        </p:blipFill>
        <p:spPr>
          <a:xfrm>
            <a:off x="4876920" y="3257640"/>
            <a:ext cx="3600360" cy="3600360"/>
          </a:xfrm>
          <a:prstGeom prst="rect">
            <a:avLst/>
          </a:prstGeom>
          <a:ln w="0">
            <a:noFill/>
          </a:ln>
        </p:spPr>
      </p:pic>
      <p:sp>
        <p:nvSpPr>
          <p:cNvPr id="433" name="TextBox 8"/>
          <p:cNvSpPr/>
          <p:nvPr/>
        </p:nvSpPr>
        <p:spPr>
          <a:xfrm>
            <a:off x="3809880" y="152388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cessive trait is seen when there are 2 copies present (homozygous recessiv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43828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36" name="Picture 2" descr="http://www.raisingdeafkids.org/graphics/art/auto_dominant.gif"/>
          <p:cNvPicPr/>
          <p:nvPr/>
        </p:nvPicPr>
        <p:blipFill>
          <a:blip r:embed="rId1"/>
          <a:stretch/>
        </p:blipFill>
        <p:spPr>
          <a:xfrm>
            <a:off x="1981080" y="533520"/>
            <a:ext cx="6096240" cy="58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oth traits are equally dominant and neither will give in so both traits are show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8" name="Title 1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14079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http://creationwiki.org/pool/images/thumb/c/c6/Codominant.jpg/200px-Codominant.jpg"/>
          <p:cNvPicPr/>
          <p:nvPr/>
        </p:nvPicPr>
        <p:blipFill>
          <a:blip r:embed="rId2"/>
          <a:stretch/>
        </p:blipFill>
        <p:spPr>
          <a:xfrm>
            <a:off x="2362320" y="2895480"/>
            <a:ext cx="3733560" cy="36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1" name="Title 1" descr=""/>
          <p:cNvPicPr/>
          <p:nvPr/>
        </p:nvPicPr>
        <p:blipFill>
          <a:blip r:embed="rId1"/>
          <a:stretch/>
        </p:blipFill>
        <p:spPr>
          <a:xfrm>
            <a:off x="457200" y="237960"/>
            <a:ext cx="8229600" cy="14148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http://html.slidesharecdn.com/incompletecodominancemultiplealleles-120302115412-phpapp01/output003.png?1330711147"/>
          <p:cNvPicPr/>
          <p:nvPr/>
        </p:nvPicPr>
        <p:blipFill>
          <a:blip r:embed="rId2"/>
          <a:stretch/>
        </p:blipFill>
        <p:spPr>
          <a:xfrm>
            <a:off x="380880" y="-609480"/>
            <a:ext cx="8110800" cy="5638680"/>
          </a:xfrm>
          <a:prstGeom prst="rect">
            <a:avLst/>
          </a:prstGeom>
          <a:ln w="0">
            <a:noFill/>
          </a:ln>
        </p:spPr>
      </p:pic>
      <p:sp>
        <p:nvSpPr>
          <p:cNvPr id="443" name="TextBox 4"/>
          <p:cNvSpPr/>
          <p:nvPr/>
        </p:nvSpPr>
        <p:spPr>
          <a:xfrm>
            <a:off x="457200" y="12193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lack Feathered Chick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3429000" y="19051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te feathered chick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6"/>
          <p:cNvSpPr/>
          <p:nvPr/>
        </p:nvSpPr>
        <p:spPr>
          <a:xfrm>
            <a:off x="5943600" y="50292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eckered feather chic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us 8"/>
          <p:cNvSpPr/>
          <p:nvPr/>
        </p:nvSpPr>
        <p:spPr>
          <a:xfrm>
            <a:off x="2590920" y="1676520"/>
            <a:ext cx="838080" cy="838080"/>
          </a:xfrm>
          <a:custGeom>
            <a:avLst/>
            <a:gdLst/>
            <a:ahLst/>
            <a:rect l="l" t="t" r="r" b="b"/>
            <a:pathLst>
              <a:path w="838200" h="838200">
                <a:moveTo>
                  <a:pt x="111103" y="320528"/>
                </a:moveTo>
                <a:lnTo>
                  <a:pt x="320528" y="320528"/>
                </a:lnTo>
                <a:lnTo>
                  <a:pt x="320528" y="111103"/>
                </a:lnTo>
                <a:lnTo>
                  <a:pt x="517672" y="111103"/>
                </a:lnTo>
                <a:lnTo>
                  <a:pt x="517672" y="320528"/>
                </a:lnTo>
                <a:lnTo>
                  <a:pt x="727097" y="320528"/>
                </a:lnTo>
                <a:lnTo>
                  <a:pt x="727097" y="517672"/>
                </a:lnTo>
                <a:lnTo>
                  <a:pt x="517672" y="517672"/>
                </a:lnTo>
                <a:lnTo>
                  <a:pt x="517672" y="727097"/>
                </a:lnTo>
                <a:lnTo>
                  <a:pt x="320528" y="727097"/>
                </a:lnTo>
                <a:lnTo>
                  <a:pt x="320528" y="517672"/>
                </a:lnTo>
                <a:lnTo>
                  <a:pt x="111103" y="517672"/>
                </a:lnTo>
                <a:lnTo>
                  <a:pt x="111103" y="320528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Equal 9"/>
          <p:cNvSpPr/>
          <p:nvPr/>
        </p:nvSpPr>
        <p:spPr>
          <a:xfrm>
            <a:off x="4572000" y="4952880"/>
            <a:ext cx="762120" cy="533520"/>
          </a:xfrm>
          <a:custGeom>
            <a:avLst/>
            <a:gdLst/>
            <a:ahLst/>
            <a:rect l="l" t="t" r="r" b="b"/>
            <a:pathLst>
              <a:path w="762000" h="533400">
                <a:moveTo>
                  <a:pt x="101003" y="109880"/>
                </a:moveTo>
                <a:lnTo>
                  <a:pt x="660997" y="109880"/>
                </a:lnTo>
                <a:lnTo>
                  <a:pt x="660997" y="235336"/>
                </a:lnTo>
                <a:lnTo>
                  <a:pt x="101003" y="235336"/>
                </a:lnTo>
                <a:lnTo>
                  <a:pt x="101003" y="109880"/>
                </a:lnTo>
                <a:close/>
                <a:moveTo>
                  <a:pt x="101003" y="298064"/>
                </a:moveTo>
                <a:lnTo>
                  <a:pt x="660997" y="298064"/>
                </a:lnTo>
                <a:lnTo>
                  <a:pt x="660997" y="423520"/>
                </a:lnTo>
                <a:lnTo>
                  <a:pt x="101003" y="423520"/>
                </a:lnTo>
                <a:lnTo>
                  <a:pt x="101003" y="298064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le 1" descr=""/>
          <p:cNvPicPr/>
          <p:nvPr/>
        </p:nvPicPr>
        <p:blipFill>
          <a:blip r:embed="rId1"/>
          <a:stretch/>
        </p:blipFill>
        <p:spPr>
          <a:xfrm>
            <a:off x="1219320" y="49320"/>
            <a:ext cx="6632280" cy="14144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" descr="http://www.emc.maricopa.edu/faculty/farabee/biobk/incomdom.gif"/>
          <p:cNvPicPr/>
          <p:nvPr/>
        </p:nvPicPr>
        <p:blipFill>
          <a:blip r:embed="rId2"/>
          <a:stretch/>
        </p:blipFill>
        <p:spPr>
          <a:xfrm>
            <a:off x="3913200" y="1447920"/>
            <a:ext cx="5230800" cy="4038480"/>
          </a:xfrm>
          <a:prstGeom prst="rect">
            <a:avLst/>
          </a:prstGeom>
          <a:ln w="0">
            <a:noFill/>
          </a:ln>
        </p:spPr>
      </p:pic>
      <p:sp>
        <p:nvSpPr>
          <p:cNvPr id="450" name="TextBox 5"/>
          <p:cNvSpPr/>
          <p:nvPr/>
        </p:nvSpPr>
        <p:spPr>
          <a:xfrm>
            <a:off x="228600" y="1447920"/>
            <a:ext cx="289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its are not dominant or recessive. The traits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end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gether to make a new color/tr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4" descr="http://bioserv.fiu.edu/~walterm/FallSpring/inheritance/Fall031.jpg"/>
          <p:cNvPicPr/>
          <p:nvPr/>
        </p:nvPicPr>
        <p:blipFill>
          <a:blip r:embed="rId3"/>
          <a:stretch/>
        </p:blipFill>
        <p:spPr>
          <a:xfrm>
            <a:off x="380880" y="3962520"/>
            <a:ext cx="320040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cess of DNA being copied before cell division occu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st make an exact copy or mutations will occur (which could be harmful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2 strands of the DNA helix split and each side serves as a template for the other sid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cess makes sure that information is not loss during the replication proc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3" name="Title 1" descr=""/>
          <p:cNvPicPr/>
          <p:nvPr/>
        </p:nvPicPr>
        <p:blipFill>
          <a:blip r:embed="rId1"/>
          <a:stretch/>
        </p:blipFill>
        <p:spPr>
          <a:xfrm>
            <a:off x="1749600" y="219240"/>
            <a:ext cx="6022800" cy="14079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" descr="http://schoolworkhelper.net/wp-content/uploads/2010/11/x-linked.gif"/>
          <p:cNvPicPr/>
          <p:nvPr/>
        </p:nvPicPr>
        <p:blipFill>
          <a:blip r:embed="rId2"/>
          <a:stretch/>
        </p:blipFill>
        <p:spPr>
          <a:xfrm>
            <a:off x="457200" y="1600200"/>
            <a:ext cx="4648320" cy="4876920"/>
          </a:xfrm>
          <a:prstGeom prst="rect">
            <a:avLst/>
          </a:prstGeom>
          <a:ln w="0">
            <a:noFill/>
          </a:ln>
        </p:spPr>
      </p:pic>
      <p:sp>
        <p:nvSpPr>
          <p:cNvPr id="455" name="TextBox 5"/>
          <p:cNvSpPr/>
          <p:nvPr/>
        </p:nvSpPr>
        <p:spPr>
          <a:xfrm>
            <a:off x="5410080" y="2057400"/>
            <a:ext cx="3505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rait is carried on the sex –chromosome (x-chromosome) so the inheritance is different for males and fema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6"/>
          <p:cNvSpPr/>
          <p:nvPr/>
        </p:nvSpPr>
        <p:spPr>
          <a:xfrm>
            <a:off x="5715000" y="4114800"/>
            <a:ext cx="289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s inherit one gene from mother on X chromosome and an unaffected Y from fa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s inherit an X from their father and an X from their moth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456840" y="16002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Trait controlled by 2 or more genes and produces a range of outcomes (examples: skin color, eye color, hair color, height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8" name="Title 1" descr=""/>
          <p:cNvPicPr/>
          <p:nvPr/>
        </p:nvPicPr>
        <p:blipFill>
          <a:blip r:embed="rId1"/>
          <a:stretch/>
        </p:blipFill>
        <p:spPr>
          <a:xfrm>
            <a:off x="1371600" y="219240"/>
            <a:ext cx="6248520" cy="14079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" descr="http://www.tokresource.org/tok_classes/biobiobio/biomenu/polygenic_inheritence/polygenic_skin.jpg"/>
          <p:cNvPicPr/>
          <p:nvPr/>
        </p:nvPicPr>
        <p:blipFill>
          <a:blip r:embed="rId2"/>
          <a:stretch/>
        </p:blipFill>
        <p:spPr>
          <a:xfrm>
            <a:off x="3809880" y="1676520"/>
            <a:ext cx="4767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http://www.columbia.edu/cu/biology/courses/c2005/images/abo_blood.21.gif"/>
          <p:cNvPicPr/>
          <p:nvPr/>
        </p:nvPicPr>
        <p:blipFill>
          <a:blip r:embed="rId1"/>
          <a:stretch/>
        </p:blipFill>
        <p:spPr>
          <a:xfrm>
            <a:off x="380880" y="1676520"/>
            <a:ext cx="5842080" cy="453384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4648320" y="2057040"/>
            <a:ext cx="39621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More than 2 forms of a gene control the trait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2" name="Title 1" descr=""/>
          <p:cNvPicPr/>
          <p:nvPr/>
        </p:nvPicPr>
        <p:blipFill>
          <a:blip r:embed="rId2"/>
          <a:stretch/>
        </p:blipFill>
        <p:spPr>
          <a:xfrm>
            <a:off x="1066680" y="219240"/>
            <a:ext cx="6858000" cy="14079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4"/>
          <p:cNvSpPr/>
          <p:nvPr/>
        </p:nvSpPr>
        <p:spPr>
          <a:xfrm>
            <a:off x="3276720" y="3352680"/>
            <a:ext cx="32004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"/>
          <p:cNvSpPr/>
          <p:nvPr/>
        </p:nvSpPr>
        <p:spPr>
          <a:xfrm>
            <a:off x="228600" y="1447920"/>
            <a:ext cx="53341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4" descr="http://rhesusnegativebloodgroup.files.wordpress.com/2011/10/64849-blood-type.gif"/>
          <p:cNvPicPr/>
          <p:nvPr/>
        </p:nvPicPr>
        <p:blipFill>
          <a:blip r:embed="rId3"/>
          <a:stretch/>
        </p:blipFill>
        <p:spPr>
          <a:xfrm>
            <a:off x="5562720" y="3581280"/>
            <a:ext cx="175248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mutations alter the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composition or number of chromosome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the organism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ually have severe consequences for the organis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ually occur during meios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2" descr="http://drugline.org/img/term/nondisjunction-10487_0.gif"/>
          <p:cNvPicPr/>
          <p:nvPr/>
        </p:nvPicPr>
        <p:blipFill>
          <a:blip r:embed="rId2"/>
          <a:stretch/>
        </p:blipFill>
        <p:spPr>
          <a:xfrm>
            <a:off x="1535040" y="1371600"/>
            <a:ext cx="58327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2" descr="http://laikaspoetnik.files.wordpress.com/2010/09/20-9-2010-1-21-05-t14-18.png"/>
          <p:cNvPicPr/>
          <p:nvPr/>
        </p:nvPicPr>
        <p:blipFill>
          <a:blip r:embed="rId2"/>
          <a:stretch/>
        </p:blipFill>
        <p:spPr>
          <a:xfrm>
            <a:off x="609480" y="1447920"/>
            <a:ext cx="792504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" descr="http://www.embryology.ch/images/kimgchromaber/02abweichende/k2g_insertion.gif"/>
          <p:cNvPicPr/>
          <p:nvPr/>
        </p:nvPicPr>
        <p:blipFill>
          <a:blip r:embed="rId2"/>
          <a:stretch/>
        </p:blipFill>
        <p:spPr>
          <a:xfrm>
            <a:off x="2057400" y="1295280"/>
            <a:ext cx="48769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79" name="Picture 2" descr="http://depts.washington.edu/chdd/outlook/images/LgChromosomalChanges.png"/>
          <p:cNvPicPr/>
          <p:nvPr/>
        </p:nvPicPr>
        <p:blipFill>
          <a:blip r:embed="rId1"/>
          <a:stretch/>
        </p:blipFill>
        <p:spPr>
          <a:xfrm>
            <a:off x="533520" y="533520"/>
            <a:ext cx="8151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2" descr="http://www.embryology.ch/images/kimgchromaber/02abweichende/k2c_deletion.gif"/>
          <p:cNvPicPr/>
          <p:nvPr/>
        </p:nvPicPr>
        <p:blipFill>
          <a:blip r:embed="rId2"/>
          <a:stretch/>
        </p:blipFill>
        <p:spPr>
          <a:xfrm>
            <a:off x="1828800" y="1371600"/>
            <a:ext cx="533412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95724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http://www.embryology.ch/images/kimgchromaber/02abweichende/k2e_duplikation.gif"/>
          <p:cNvPicPr/>
          <p:nvPr/>
        </p:nvPicPr>
        <p:blipFill>
          <a:blip r:embed="rId2"/>
          <a:stretch/>
        </p:blipFill>
        <p:spPr>
          <a:xfrm>
            <a:off x="2057400" y="1074600"/>
            <a:ext cx="449568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2" name="Picture 4" descr="http://www.visionlearning.com/library/modules/mid180/Image/VLObject-4903-100608090630.jpg"/>
          <p:cNvPicPr/>
          <p:nvPr/>
        </p:nvPicPr>
        <p:blipFill>
          <a:blip r:embed="rId1"/>
          <a:stretch/>
        </p:blipFill>
        <p:spPr>
          <a:xfrm>
            <a:off x="304920" y="304920"/>
            <a:ext cx="88074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" descr="http://academic.brooklyn.cuny.edu/biology/bio4fv/page/molecular%20biology/mutation-inversion.jpeg"/>
          <p:cNvPicPr/>
          <p:nvPr/>
        </p:nvPicPr>
        <p:blipFill>
          <a:blip r:embed="rId2"/>
          <a:stretch/>
        </p:blipFill>
        <p:spPr>
          <a:xfrm>
            <a:off x="1447920" y="1219320"/>
            <a:ext cx="647676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5" descr="http://www.ces.ncsu.edu/resources/crops/ag546-1/helixes3.jpg"/>
          <p:cNvPicPr/>
          <p:nvPr/>
        </p:nvPicPr>
        <p:blipFill>
          <a:blip r:embed="rId2"/>
          <a:stretch/>
        </p:blipFill>
        <p:spPr>
          <a:xfrm>
            <a:off x="304920" y="1447920"/>
            <a:ext cx="858204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3" name="Title 2" descr=""/>
          <p:cNvPicPr/>
          <p:nvPr/>
        </p:nvPicPr>
        <p:blipFill>
          <a:blip r:embed="rId1"/>
          <a:stretch/>
        </p:blipFill>
        <p:spPr>
          <a:xfrm>
            <a:off x="457200" y="55440"/>
            <a:ext cx="8229600" cy="8524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http://www.accessexcellence.org/RC/AB/BA/aapost/images/recipe.gif"/>
          <p:cNvPicPr/>
          <p:nvPr/>
        </p:nvPicPr>
        <p:blipFill>
          <a:blip r:embed="rId2"/>
          <a:stretch/>
        </p:blipFill>
        <p:spPr>
          <a:xfrm>
            <a:off x="533520" y="609480"/>
            <a:ext cx="82594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6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2" descr="http://www.clonesafety.org/images/DollyDiagram.gif"/>
          <p:cNvPicPr/>
          <p:nvPr/>
        </p:nvPicPr>
        <p:blipFill>
          <a:blip r:embed="rId2"/>
          <a:stretch/>
        </p:blipFill>
        <p:spPr>
          <a:xfrm>
            <a:off x="3505320" y="0"/>
            <a:ext cx="467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500" name="Picture 5" descr="http://web.cmta.net/graphics/graphic_genetic_engineering.jpg"/>
          <p:cNvPicPr/>
          <p:nvPr/>
        </p:nvPicPr>
        <p:blipFill>
          <a:blip r:embed="rId1"/>
          <a:stretch/>
        </p:blipFill>
        <p:spPr>
          <a:xfrm>
            <a:off x="380880" y="304920"/>
            <a:ext cx="84661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2" name="Title 2" descr=""/>
          <p:cNvPicPr/>
          <p:nvPr/>
        </p:nvPicPr>
        <p:blipFill>
          <a:blip r:embed="rId1"/>
          <a:stretch/>
        </p:blipFill>
        <p:spPr>
          <a:xfrm>
            <a:off x="0" y="274680"/>
            <a:ext cx="2438280" cy="11462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" descr="http://www.examiner.com/images/blog/EXID11984/images/DNA_testing_helps_solve_crimes_www_examiner_com_ShowPhoto.jpg"/>
          <p:cNvPicPr/>
          <p:nvPr/>
        </p:nvPicPr>
        <p:blipFill>
          <a:blip r:embed="rId2"/>
          <a:stretch/>
        </p:blipFill>
        <p:spPr>
          <a:xfrm>
            <a:off x="2495520" y="304920"/>
            <a:ext cx="65008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457200" y="208080"/>
            <a:ext cx="8229600" cy="85248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80520" y="1066320"/>
            <a:ext cx="4040280" cy="6397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Transcrip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723920" y="1066320"/>
            <a:ext cx="4041720" cy="6397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Transla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76520"/>
            <a:ext cx="40402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formation from the DNA (in the nucleus) is copied in the form of messenger RNA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pies only the information for the protein that needs to be made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mRNA then leaves the nucleus and travels to the ribosome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44720" y="1752120"/>
            <a:ext cx="40417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codes the information from the mRNA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Occurs in the ribosom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eeds tRNA and mRNA to make the protein correctly according to the directions that were specified in the original DN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enetic code for each amino acid is the same in ALL organism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Picture 2" descr="http://www.brooklyn.cuny.edu/bc/ahp/BioInfo/graphics/GP.GeneticCode.GIF"/>
          <p:cNvPicPr/>
          <p:nvPr/>
        </p:nvPicPr>
        <p:blipFill>
          <a:blip r:embed="rId1"/>
          <a:stretch/>
        </p:blipFill>
        <p:spPr>
          <a:xfrm>
            <a:off x="838080" y="228600"/>
            <a:ext cx="6629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6" name="Picture 2" descr="http://www.mysciencebox.org/files/images/Transcription%20translation.gif"/>
          <p:cNvPicPr/>
          <p:nvPr/>
        </p:nvPicPr>
        <p:blipFill>
          <a:blip r:embed="rId1"/>
          <a:stretch/>
        </p:blipFill>
        <p:spPr>
          <a:xfrm>
            <a:off x="609480" y="0"/>
            <a:ext cx="7696440" cy="66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8539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" descr="http://wpcontent.answcdn.com/wikipedia/commons/thumb/6/69/Point_mutations-en.png/301px-Point_mutations-en.png"/>
          <p:cNvPicPr/>
          <p:nvPr/>
        </p:nvPicPr>
        <p:blipFill>
          <a:blip r:embed="rId2"/>
          <a:stretch/>
        </p:blipFill>
        <p:spPr>
          <a:xfrm>
            <a:off x="228600" y="914400"/>
            <a:ext cx="87883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2" name="AutoShape 2"/>
          <p:cNvSpPr/>
          <p:nvPr/>
        </p:nvSpPr>
        <p:spPr>
          <a:xfrm>
            <a:off x="0" y="-738360"/>
            <a:ext cx="16477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4"/>
          <p:cNvSpPr/>
          <p:nvPr/>
        </p:nvSpPr>
        <p:spPr>
          <a:xfrm>
            <a:off x="0" y="-738360"/>
            <a:ext cx="16477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6" descr="http://www.daftblogger.com/wp-content/uploads/2011/08/frameshift-mutation.jpg"/>
          <p:cNvPicPr/>
          <p:nvPr/>
        </p:nvPicPr>
        <p:blipFill>
          <a:blip r:embed="rId2"/>
          <a:stretch/>
        </p:blipFill>
        <p:spPr>
          <a:xfrm>
            <a:off x="1981080" y="1143000"/>
            <a:ext cx="571500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Original D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THE CAT ATE THE FAT RAT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05766"/>
                </a:solidFill>
                <a:latin typeface="Lucida Sans Unicode"/>
              </a:rPr>
              <a:t>Silent Mut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THA CAT ATE THE FAT RA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05766"/>
                </a:solidFill>
                <a:latin typeface="Lucida Sans Unicode"/>
              </a:rPr>
              <a:t>Nonsense  Mut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THE CAT ATE TH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05766"/>
                </a:solidFill>
                <a:latin typeface="Lucida Sans Unicode"/>
              </a:rPr>
              <a:t>Missense Mut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THE CAR ATE THE FAT RAT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05766"/>
                </a:solidFill>
                <a:latin typeface="Lucida Sans Unicode"/>
              </a:rPr>
              <a:t>Frameshift Mut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THE CCA TAT ETH EFA TRA T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THC ATA TET HEF ATR AT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17:29:46Z</dcterms:created>
  <dc:creator>Administrator</dc:creator>
  <dc:description/>
  <dc:language>en-US</dc:language>
  <cp:lastModifiedBy>Dawn  Marshall</cp:lastModifiedBy>
  <dcterms:modified xsi:type="dcterms:W3CDTF">2013-03-20T15:22:38Z</dcterms:modified>
  <cp:revision>27</cp:revision>
  <dc:subject/>
  <dc:title>Bio Boot Camp</dc:title>
</cp:coreProperties>
</file>